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D482-763C-4FEE-B102-3013DA8FF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7E78-AC2C-4ABD-91B5-6B776906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A266-8624-46BC-9211-D25DE6505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E202-609F-4B1F-B906-DA065DE34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035F-07D7-416F-934B-82DA2007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FFFF-BCEB-499F-BD64-CB566D0E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73EF-7E09-47FA-8D89-F6F71F86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ACC1-93E2-436E-827F-AD167916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B282-E2D8-461C-8D20-A0ED8A72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7E3E-872A-409B-8B55-891427FC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78B3-7E37-4F67-8F63-D9A19FE2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5383-D291-4B9D-B869-5CD12956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79AA-5536-49DE-A89A-224D2635AEF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PT Bold Heading"/>
              </a:rPr>
              <a:t>الفصل الاو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ماهية التقارير المال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والمستفيدون منها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وأهداف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623736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741600" y="1333440"/>
            <a:ext cx="7660800" cy="1031400"/>
          </a:xfrm>
          <a:prstGeom prst="rect">
            <a:avLst/>
          </a:prstGeom>
          <a:solidFill>
            <a:srgbClr val="ebd1a1"/>
          </a:solidFill>
          <a:ln w="7632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هدف من التقارير الما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9080" y="3130920"/>
            <a:ext cx="7580160" cy="22510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ظهار نتيجة نشاط المنشأة والمركز المالي والتغيرات في المركز المالي بكل عدالة ووضوح في ضوء المبادئ المحاسبية المقبو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إمداد المستفيدين بمعلومات موثوق بها عن نشاط المنشأة ومركزها المال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2000" y="64612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771480"/>
            <a:ext cx="7772760" cy="9082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خصائص النوعية للمعلوم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5040" y="2421000"/>
            <a:ext cx="3181320" cy="386856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لائ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ق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دم التحي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ابلية للفه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وقي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قار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A508-6936-41C9-9AB4-3C8F879E2A86}" type="slidenum">
              <a:t>11</a:t>
            </a:fld>
          </a:p>
        </p:txBody>
      </p:sp>
    </p:spTree>
  </p:cSld>
  <p:transition>
    <p:random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764640"/>
            <a:ext cx="7772760" cy="120024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وامل المؤثرة على الهدف من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2320" y="2973240"/>
            <a:ext cx="5486400" cy="32641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نظمات المهن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جهات المشرفة على البورص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نظام الاقتصادي السائ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ضخ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دخل الحكوم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87CC-7CC0-4B4B-9038-4441A4A711A2}" type="slidenum">
              <a:t>12</a:t>
            </a:fld>
          </a:p>
        </p:txBody>
      </p:sp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68960" y="1410480"/>
            <a:ext cx="7693200" cy="717840"/>
          </a:xfrm>
          <a:prstGeom prst="rect">
            <a:avLst/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دود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2637000"/>
            <a:ext cx="7775280" cy="35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تكلفة التاريخ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مخصص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تعدد الطرق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توقي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عدم اشتمالها على بعض الأصول (الموارد البشري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لغة التي تعد على أساسها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64612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41600" y="1617480"/>
            <a:ext cx="7660800" cy="1031400"/>
          </a:xfrm>
          <a:prstGeom prst="rect">
            <a:avLst/>
          </a:prstGeom>
          <a:solidFill>
            <a:srgbClr val="eaeaea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دف المقر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25400" y="3486960"/>
            <a:ext cx="7607520" cy="1764360"/>
          </a:xfrm>
          <a:prstGeom prst="rect">
            <a:avLst/>
          </a:prstGeom>
          <a:solidFill>
            <a:srgbClr val="eaeaea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مكين الدارسين من التعرف على الأساليب العلمية المستخدمة في تحليل وتفسير القوائم المالية (التحليل المالي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6237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2638440"/>
            <a:ext cx="7989840" cy="31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a7ff"/>
              </a:gs>
              <a:gs pos="50000">
                <a:srgbClr val="ffffff"/>
              </a:gs>
              <a:gs pos="100000">
                <a:srgbClr val="d3a7ff"/>
              </a:gs>
            </a:gsLst>
            <a:lin ang="5400000"/>
          </a:gra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جزء لا يتجزأ من التقارير الما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عتبر القوائم المالية عصب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قارير المالية أعم من القوائم المالية فهي تشمل التقارير المالية ومعلومات أخرى مالية وغير مالية مثل المعلومات عن النشاط التسويقي والإنتاجي للمنشأة وتقرير مجلس الإدارة وتقرير المراجع الخارجي ...ال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ئولية المراجع فقط عن القوائم المالية والملاحظات المرفقة ب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125360"/>
            <a:ext cx="7993080" cy="8636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الفرق بين التقارير المالية والقوائم المالي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3D25-605F-4883-AF2A-99E02ED4D767}" type="slidenum">
              <a:t>3</a:t>
            </a:fld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03640" y="2016000"/>
            <a:ext cx="3581640" cy="7653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0320" y="609120"/>
            <a:ext cx="7772400" cy="1143000"/>
          </a:xfrm>
          <a:prstGeom prst="rect">
            <a:avLst/>
          </a:prstGeom>
          <a:solidFill>
            <a:srgbClr val="ccccff"/>
          </a:solidFill>
          <a:ln w="7632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حتويات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67280" y="3105000"/>
            <a:ext cx="3529080" cy="8287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المراج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46360" y="4221000"/>
            <a:ext cx="3581280" cy="8668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مجلس الادا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5300640"/>
            <a:ext cx="4267440" cy="8380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الادارة التنفيذ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 rtl="1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623736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115920"/>
            <a:ext cx="42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F24A-9CBD-4858-9DB3-DCE7E92EEB5A}" type="slidenum">
              <a:t>4</a:t>
            </a:fld>
          </a:p>
        </p:txBody>
      </p:sp>
    </p:spTree>
  </p:cSld>
  <p:transition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39280" y="549000"/>
            <a:ext cx="7993440" cy="690120"/>
          </a:xfrm>
          <a:prstGeom prst="rect">
            <a:avLst/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ولاً: القوائم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0200" y="2671560"/>
            <a:ext cx="3819600" cy="6490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فاهيم التي تؤثر على شكل ومحتوى القوائم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254560" y="2673360"/>
            <a:ext cx="3168720" cy="64944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ناصر القوائم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3836880"/>
            <a:ext cx="3166920" cy="23767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أصول (الموجودات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لتزامات (المطلوبات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إيراد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صروف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صافي الدخ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3836880"/>
            <a:ext cx="1800360" cy="23767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دور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حقق الإيرا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قاب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وحدة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قياس النقد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3838680"/>
            <a:ext cx="1873080" cy="23986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51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كلفة التاريخ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إفصا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أهمية النسب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فظ (الحيطة والحذ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601640"/>
            <a:ext cx="7993080" cy="7192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قائمة المركز المالي – قائمة الدخل – قائمة التدفقات النقدية – قائمة الأرباح المحتجز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32720" y="342900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32000" y="342900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342900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FC24-FD50-43B2-B02D-B84979E19381}" type="slidenum">
              <a:t>5</a:t>
            </a:fld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ثانياً: تقرير مراقب الحساب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نتيجة الفحص للقوائم المالية من حيث مدى دقة المعلومات التي تحتويها ومدى تمثيلها بصدق وعدالة للمركز المالي للمشروع ونتيجة نشاط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B765-B1D4-4F5E-BCEE-CD7CB625464B}" type="slidenum">
              <a:t>6</a:t>
            </a:fld>
          </a:p>
        </p:txBody>
      </p:sp>
    </p:spTree>
  </p:cSld>
  <p:transition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ثالثاً: تقرير مجلس الإدار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معلومات عامة عن المنشأة وأهدافها ومركزها المالي والتسويقي، ومعلومات عن الإنتاج ودرجة نمو المبيعات والأرباح والعوامل المؤثرة في نشاط المنشأة مستقبلا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لا تخضع المعلومات الواردة فيه لمراجعة مراقب الحسابات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F8C7-FE4C-47CC-94DB-4E111BD133FA}" type="slidenum">
              <a:t>7</a:t>
            </a:fld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ابعاً: تقرير الإدارة التنفيذ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معلومات أكثر تفصيلاً من تقرير مجلس الإدارة، كالأصول والالتزامات وحقوق الملكية والتغيرات التي حدثت عليها خلال السنة المالية، ومعلومات عن العقود الجديدة وسياسة توزيع الأرباح والعاملين والخدمات المقدمة له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لزامي في بعض الدول كبريطاني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6138-31EA-4FD5-8E10-FDF2C5EEA79F}" type="slidenum">
              <a:t>8</a:t>
            </a:fld>
          </a:p>
        </p:txBody>
      </p:sp>
    </p:spTree>
  </p:cSld>
  <p:transition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704880"/>
            <a:ext cx="7772400" cy="1571760"/>
          </a:xfrm>
          <a:prstGeom prst="downArrowCallout">
            <a:avLst>
              <a:gd name="adj1" fmla="val -122318"/>
              <a:gd name="adj2" fmla="val 123626"/>
              <a:gd name="adj3" fmla="val 16667"/>
              <a:gd name="adj4" fmla="val 6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فيدون من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0920" y="2492280"/>
            <a:ext cx="5040360" cy="352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d1a1"/>
              </a:gs>
              <a:gs pos="50000">
                <a:srgbClr val="ffffff"/>
              </a:gs>
              <a:gs pos="100000">
                <a:srgbClr val="ebd1a1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إدارة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لاك المنشأة والمستثمرون المحتمل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دائنو المنشأة والبنو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جهات الحكوم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راكز الدراسات والبحو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78D1-7C44-45D2-935B-A049A159CD21}" type="slidenum">
              <a:t>9</a:t>
            </a:fld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saeed dawas</cp:lastModifiedBy>
  <dcterms:modified xsi:type="dcterms:W3CDTF">2004-05-30T22:41:08Z</dcterms:modified>
  <cp:revision>21</cp:revision>
  <dc:subject/>
  <dc:title>التحليل المالي والائتماني</dc:title>
</cp:coreProperties>
</file>